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71C6-8859-45CC-BCF7-51B3C27D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FF56-9595-40E2-A415-5B789236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9039-77E2-4CA2-9C64-1D518179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2EE8-1826-4856-BC16-A2823A2E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A957-690A-46B5-8183-94D9CA69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C6CB-9927-4F59-965E-3DFDCA89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B7C3-EC6C-440E-8236-C810FAFD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9DA7-ADF2-404F-BAF8-DA6B9B5F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08F3-8653-4FA8-B3B7-6AB2143B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D6ED-61D1-4632-9EC4-28AD1847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9E09-E064-486F-9FCE-4B025609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DAF4-66F9-42C1-9CB0-C98F5665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C376-CB13-4E42-B8A3-442FB4F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9B30-F87F-409F-83A9-B7580716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94C3-6380-4C00-9C84-66747F36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6030-A740-4B54-98BD-282F62B1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2087-F395-453D-8BE0-072EF669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F42F-4F6D-4C14-8E19-060B263B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239B-E483-45C1-B011-6B23FEBE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1554-9FD8-4829-AC07-C9A9EE15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3F4B-A6C8-4AD8-A4F6-07F5062A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6A8A-9519-4BFB-A7EC-B73E9475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2AAC-2599-482F-9971-578C2423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9D06-99EA-4FE7-9799-30DD40C6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7FCB-9956-4E3D-A0CF-00F0B419D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7665-1739-4A9A-B85D-6EC9599AF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Playfai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 Playfair Cip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characteristics of Playfair ciphertext that can be useful in identifying it as a Playfai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a substitution system, the rare consonants j, k, q, x, and z will appear in higher frequencies than plaintext and digraphs containing these consonants will appear more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n even number of letters in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iphertext is broken up into digrams, doubled letters such as SS, EE, MM, . . . will not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85BD-8FD0-458E-B6EF-A99BF75B6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360" y="209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680" y="1346040"/>
            <a:ext cx="7456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help in the process of identifying a Playfair (or other polygraphic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5240" y="2200320"/>
            <a:ext cx="1193760" cy="46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67000" y="2838600"/>
            <a:ext cx="574200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3067200"/>
            <a:ext cx="1095480" cy="657000"/>
          </a:xfrm>
          <a:prstGeom prst="wedgeRoundRectCallout">
            <a:avLst>
              <a:gd name="adj1" fmla="val -42319"/>
              <a:gd name="adj2" fmla="val 67634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A01A-433A-42EB-BBDC-79F191AEB3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7T03:22:54Z</dcterms:modified>
  <cp:revision>65</cp:revision>
  <dc:subject/>
  <dc:title>CAP Cryptographic Analysis Program</dc:title>
</cp:coreProperties>
</file>